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2.png" ContentType="image/png"/>
  <Override PartName="/ppt/media/image13.png" ContentType="image/png"/>
  <Override PartName="/ppt/media/image41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39.png" ContentType="image/png"/>
  <Override PartName="/ppt/media/image9.png" ContentType="image/png"/>
  <Override PartName="/ppt/media/image37.wmf" ContentType="image/x-wmf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7.png" ContentType="image/png"/>
  <Override PartName="/ppt/media/image11.png" ContentType="image/png"/>
  <Override PartName="/ppt/media/image10.wmf" ContentType="image/x-wmf"/>
  <Override PartName="/ppt/media/image32.png" ContentType="image/png"/>
  <Override PartName="/ppt/media/image2.png" ContentType="image/png"/>
  <Override PartName="/ppt/media/image25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30.wmf" ContentType="image/x-wmf"/>
  <Override PartName="/ppt/media/image2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17BC-5D01-4A22-A825-55536C5FF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160A-9CE7-4876-B0AF-B71250193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3DD8-8266-490F-8968-E9139C5AE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E68E-53A0-4F44-9C4C-B2AEA16AA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A71F-D830-4691-AF20-B6575FFED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096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E4B9-1402-46EE-82A3-5057A5A34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9177-0FB0-4586-BB4C-6569A0C3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7ED1-FB93-4213-A19F-50747C6D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8479-147E-4146-A230-A06B1DF9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BD35-3671-4286-B94E-5C029D396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DFA0-E8CF-4CEA-9685-6ACADB9E6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7E10-96F2-4CBF-8599-F8916BB4A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096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1190520" cy="63504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836640"/>
            <a:ext cx="9144000" cy="28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8302680" y="30240"/>
            <a:ext cx="806400" cy="806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44280"/>
            <a:ext cx="66978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8920" y="1341000"/>
            <a:ext cx="878364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1"/>
          </p:nvPr>
        </p:nvSpPr>
        <p:spPr>
          <a:xfrm>
            <a:off x="205920" y="6381720"/>
            <a:ext cx="21322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06699"/>
                </a:solidFill>
                <a:latin typeface="Arial"/>
              </a:rPr>
              <a:t> </a:t>
            </a:r>
            <a:fld id="{40E3915B-5AC9-4EEF-9B11-9215A0870E15}" type="datetime10">
              <a:rPr b="0" lang="en-US" sz="1400" spc="-1" strike="noStrike">
                <a:solidFill>
                  <a:srgbClr val="006699"/>
                </a:solidFill>
                <a:latin typeface="Arial"/>
              </a:rPr>
              <a:t>07:05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2"/>
          </p:nvPr>
        </p:nvSpPr>
        <p:spPr>
          <a:xfrm>
            <a:off x="2484000" y="6381720"/>
            <a:ext cx="41734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66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3"/>
          </p:nvPr>
        </p:nvSpPr>
        <p:spPr>
          <a:xfrm>
            <a:off x="6831000" y="6381720"/>
            <a:ext cx="21319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89B7BA-7ABB-4273-9ECD-5916D52D6FCA}" type="slidenum">
              <a:rPr b="0" lang="en-GB" sz="14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910560" y="117360"/>
            <a:ext cx="1190520" cy="635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836640"/>
            <a:ext cx="9144000" cy="288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8244000" y="30240"/>
            <a:ext cx="806400" cy="806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220500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e de Acesso Baseado em Biometria Faci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03280" y="6021360"/>
            <a:ext cx="640080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tória 31 de Agosto de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47640" y="443700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iro Lucas de Mora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95280" y="1267920"/>
            <a:ext cx="842472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Um sistema biométrico de controle de acesso deve retornar uma resposta binária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ceitar o indivíduo como “legítimo” (concedendo acesso a determinado recurso) ou rejeitar o mesmo como “impostor”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Esta decisão é tomada utilizando-se um limite conhecido como “limiar de casamento” (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</a:rPr>
              <a:t>matching threshold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) ou </a:t>
            </a:r>
            <a:r>
              <a:rPr b="0" lang="pt-BR" sz="3000" spc="-1" strike="noStrike">
                <a:solidFill>
                  <a:srgbClr val="ff6600"/>
                </a:solidFill>
                <a:latin typeface="Arial"/>
              </a:rPr>
              <a:t>Limiar de Decisão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É ele que define o grau de certeza (pontuação, crença...) a ser utilizado para optar entre as classes 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legítimo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impostor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1334880" y="106200"/>
            <a:ext cx="7197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ometri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8424720" cy="28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erdadeiro Positivo (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True Positiv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- T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erdadeiro Negativo (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True Negativ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- T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also Positivo (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False Positiv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- F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also Negativo (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False Negativ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- F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abela de Contingê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187280" y="4292640"/>
            <a:ext cx="5029200" cy="22287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334880" y="106200"/>
            <a:ext cx="7197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ometria: Medidas de Desempenho em Sistemas Biométric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26920" y="2565360"/>
            <a:ext cx="2448000" cy="10764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55640" y="3478320"/>
            <a:ext cx="3960720" cy="18954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755640" y="5229360"/>
            <a:ext cx="2448000" cy="11840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68360" y="1413000"/>
            <a:ext cx="8424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6000"/>
          </a:bodyPr>
          <a:p>
            <a:pPr marL="259200" indent="-2592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artir da tabela de contingência foram criadas as métricas mais usadas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59200" indent="-259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34880" y="106200"/>
            <a:ext cx="7197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ometria: Medidas de Desempenho em Sistemas Biométric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95280" y="1267920"/>
            <a:ext cx="84247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 taxas mencionadas são diretamente influenciadas pelo limiar de decisão escolhido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987640" y="2924280"/>
            <a:ext cx="3745080" cy="26985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1334880" y="106200"/>
            <a:ext cx="7197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ometria: Medidas de Desempenho em Sistemas Biométric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42472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Gráfico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R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Gráfico onde cada ponto (x, y) representa as taxas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FAR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Recall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Recall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e o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FAR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ependem diretamente de um limiar de decisão — definidor da fronteira entre os usuários “legítimos” e “impostores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ssim, uma curva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ROC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é formada variando-se este limiar dentro de determinado espaço, plotando-se no gráfico cada ponto (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FAR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Recall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) obtido com o limiar adot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1334880" y="106200"/>
            <a:ext cx="7197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ometria: Medidas de Desempenho em Sistemas Biométric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908000" y="3213000"/>
            <a:ext cx="5257800" cy="30765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274920" y="1413000"/>
            <a:ext cx="2521080" cy="15937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34880" y="106200"/>
            <a:ext cx="7197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ometria: Medidas de Desempenho em Sistemas Biométric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4360" y="148428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335240" y="77760"/>
            <a:ext cx="69818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ecção Objetos: Detecção de Face, Olhos e Mão em Tempo Re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1268280"/>
            <a:ext cx="77724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4000"/>
          </a:bodyPr>
          <a:p>
            <a:pPr marL="218160" indent="-2181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ara detecção da face, mão e olhos na imagens utilizamos a técnica proposta por Viola e Jones [Viola01]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74120" indent="-1814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tiliza imagem integ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74120" indent="-1814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binação de classificadores baseados no AdaBoo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74120" indent="-181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84360" y="148428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00000" y="1341360"/>
            <a:ext cx="777240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 face e mãos o método atendeu as necessidades do proje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 detecção dos olhos, em alguns casos, foi utilizado um método alternativ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ja F(x,y) o ponto superior direito da face detectada, β sua largura e θ sua altura. A localização dos olhos é dada p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(x) = F(x) + β / 3.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(y) = F(y) + θ / 2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E(x) = F(x) + β – (β / 3.2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E(y) = F(y) + θ / 2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1335240" y="77760"/>
            <a:ext cx="69818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ecção Objetos: Detecção de Face, olhos e mão em Tempo Re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84360" y="148428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203640" y="1557360"/>
            <a:ext cx="3692520" cy="53006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1335240" y="77760"/>
            <a:ext cx="69818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ecção Objetos: Detecção de Face, olhos e mão em Tempo Re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4005360"/>
            <a:ext cx="84978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1280" y="1341360"/>
            <a:ext cx="77724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8360" y="1557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619280" y="1197000"/>
            <a:ext cx="5381640" cy="54849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335240" y="77760"/>
            <a:ext cx="69818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e de Acesso: Reconhecimento de face com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G-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56840" y="260280"/>
            <a:ext cx="69087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784692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met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cção de Obje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e de Acesso Baseado em Biometria Fa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os e Result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5640" y="1268280"/>
            <a:ext cx="716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5280" y="4005360"/>
            <a:ext cx="84978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1280" y="1341360"/>
            <a:ext cx="77724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1557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1341360"/>
            <a:ext cx="842472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RNSP 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</a:rPr>
              <a:t>Virtual Generalizing RAM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</a:rPr>
              <a:t>VG-RAM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) são baseadas em RAM e somente requerem capacidade de memória para armazenar os dados de treinament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Os neurônios 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</a:rPr>
              <a:t>VG-RAM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armazenam os pares entrada-saída observados durante o treinamento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1335240" y="77760"/>
            <a:ext cx="69818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e de Acesso: Reconhecimento de face com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G-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5280" y="4005360"/>
            <a:ext cx="84978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11280" y="1341360"/>
            <a:ext cx="77724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332000" y="4076640"/>
            <a:ext cx="6696000" cy="15955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335240" y="77760"/>
            <a:ext cx="69818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e de Acesso: Reconhecimento de face com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G-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11640" y="2060640"/>
            <a:ext cx="1584360" cy="1512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48000" y="2133720"/>
            <a:ext cx="936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48000" y="2852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3348000" y="3284280"/>
            <a:ext cx="1008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96000" y="285264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00360" y="191628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00360" y="263700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700360" y="334980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948360" y="263700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00720" y="2349360"/>
            <a:ext cx="1008000" cy="95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110 –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001 –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010 –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11280" y="1341360"/>
            <a:ext cx="77724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1268280"/>
            <a:ext cx="842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03360" indent="-6033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grama da arquitetura utiliza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476360" y="2060640"/>
            <a:ext cx="6120000" cy="440856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35240" y="77760"/>
            <a:ext cx="69818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e de Acesso: Reconhecimento de face com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G-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5280" y="4005360"/>
            <a:ext cx="84978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11280" y="1341360"/>
            <a:ext cx="77724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1335240" y="77760"/>
            <a:ext cx="69818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e de Acesso: Reconhecimento de face com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G-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33809" b="0"/>
          <a:stretch/>
        </p:blipFill>
        <p:spPr>
          <a:xfrm>
            <a:off x="3059280" y="1989000"/>
            <a:ext cx="3887640" cy="13543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68360" y="1341360"/>
            <a:ext cx="8424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drão de conexão das sinapses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68360" y="3789360"/>
            <a:ext cx="8064360" cy="189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5280" y="4005360"/>
            <a:ext cx="84978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280" y="1341360"/>
            <a:ext cx="77724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1557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amento da imag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763640" y="2276640"/>
            <a:ext cx="6408720" cy="360036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1335240" y="49320"/>
            <a:ext cx="69818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e de Acesso: Visão Geral da Solução Propos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5280" y="4005360"/>
            <a:ext cx="84978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116000" y="1989000"/>
            <a:ext cx="7121520" cy="338472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1335240" y="49320"/>
            <a:ext cx="69818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e de Acesso: Visão Geral da Solução Propos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4005360"/>
            <a:ext cx="84978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11280" y="1341360"/>
            <a:ext cx="77724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68360" y="1557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01800" y="1916280"/>
            <a:ext cx="7772400" cy="43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95280" y="1557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limiar de decisão é um dos pontos mais importantes do Controle de Acesso. No nosso ca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imiar baseado em decisões probabilís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samos o Teorema de Bayes, que permite calcular uma probabilidade condicional a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posteriori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baseado em probabilidades já conhecidas (a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priori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probabilidade condicional relaciona a ocorrência de um evento (a) à ocorrência de outro (b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1335240" y="49320"/>
            <a:ext cx="69818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e de Acesso: Metodologia – Limiar de Decisã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5280" y="4005360"/>
            <a:ext cx="84978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11280" y="1341360"/>
            <a:ext cx="77724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8360" y="1557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924360" y="1484280"/>
            <a:ext cx="1749240" cy="5191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539640" y="2060640"/>
            <a:ext cx="777744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babilidade de acontecer o evento “a” dado qu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ontece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 evento “b”  é x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ja “a” o evento “usuário  legitimo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ja “b” o evento “crença classificador maior que 20%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3635280" y="5378400"/>
            <a:ext cx="2233800" cy="59688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1335240" y="49320"/>
            <a:ext cx="69818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e de Acesso: Metodologia – Limiar de Decisã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4005360"/>
            <a:ext cx="84978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11280" y="1341360"/>
            <a:ext cx="77724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68360" y="1557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01800" y="1916280"/>
            <a:ext cx="7772400" cy="43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5280" y="2394000"/>
            <a:ext cx="84247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(A|B) é a probabilidade procurada. Define as chances de acontecer o evento A, dado que ocorreu o evento B. Esta é a probabilidade a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posteriori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ou seja, ainda não conhec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 (B|A) é a probabilidade de acontecer o evento B dado que ocorreu o evento A. Deve ser previamente conhec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(A) é a probabilidade de ocorrer o evento A. Deve ser previamente conhec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(B) é a probabilidade de ocorrência do evento B. Deve ser previamente conhec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411280" y="1268280"/>
            <a:ext cx="4319640" cy="9162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1335240" y="49320"/>
            <a:ext cx="69818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e de Acesso: Metodologia – Limiar de Decisã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1280" y="1341360"/>
            <a:ext cx="77724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68360" y="1557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01800" y="1916280"/>
            <a:ext cx="7772400" cy="43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4360" y="1916280"/>
            <a:ext cx="8424720" cy="49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22200" y="1197000"/>
            <a:ext cx="871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s probabilidades a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priori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os parâmetros P(A), P(B) e P(B|A) são obtidas através de tabela previamente criada durante a fase de calibração do sist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716360" y="2708280"/>
            <a:ext cx="2797200" cy="39337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1335240" y="49320"/>
            <a:ext cx="69818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e de Acesso: Metodologia – Limiar de Decisã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28400" y="260280"/>
            <a:ext cx="69087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482480"/>
            <a:ext cx="842472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4440" indent="-33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identificação ou verificação eletrônica da identidade de pessoas tem se tornado cada vez mais corriqueir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 indivíduo, hoje, convive com os processos de identificação e verificação de identidade no seu dia a di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seada em “algo que você tem”ou “algo que você sabe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444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444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5280" y="4005360"/>
            <a:ext cx="84978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11280" y="1341360"/>
            <a:ext cx="77724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68360" y="1557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01800" y="1916280"/>
            <a:ext cx="7772400" cy="43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4360" y="1916280"/>
            <a:ext cx="8424720" cy="49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5280" y="119700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800" spc="-1" strike="noStrike">
                <a:solidFill>
                  <a:srgbClr val="ff6600"/>
                </a:solidFill>
                <a:latin typeface="Arial"/>
              </a:rPr>
              <a:t>Exemplo: Classificador retornou uma crença de 18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1160" indent="-490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(A)  -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Indica a probabilidade incondicional do usuário ser “legítimo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1160" indent="-490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(B) -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dica probabilidade incondicional de um usuário qualquer ser classificado no intervalo de 18% a 20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1160" indent="-490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 (B|A)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Indica probabilidade do usuário ser classificado no intervalo de 18% a 20% dado que é “legítimo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1160" indent="-490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a tabela  temo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1800" indent="-420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 (A) = 50,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1800" indent="-420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 (B) = 2,00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1800" indent="-420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 (B|A) = 3,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1335240" y="49320"/>
            <a:ext cx="69818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e de Acesso: Metodologia – Limiar de Decisã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95280" y="4005360"/>
            <a:ext cx="84978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1341360"/>
            <a:ext cx="77724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8360" y="1557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01800" y="1844640"/>
            <a:ext cx="7772400" cy="43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4360" y="1916280"/>
            <a:ext cx="8424720" cy="49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68360" y="1773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plicando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2050920" y="2492280"/>
            <a:ext cx="4535640" cy="9590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1835280" y="4149720"/>
            <a:ext cx="6624360" cy="132084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1335240" y="49320"/>
            <a:ext cx="69818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e de Acesso: Metodologia – Limiar de Decisã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95280" y="4005360"/>
            <a:ext cx="84978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11280" y="1341360"/>
            <a:ext cx="77724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68360" y="1557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68360" y="1341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901800" y="1916280"/>
            <a:ext cx="7772400" cy="43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4360" y="1916280"/>
            <a:ext cx="8424720" cy="49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68360" y="1197000"/>
            <a:ext cx="842472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limiar de decisão é sempre confrontado com o valor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osterior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2916360" y="2205000"/>
            <a:ext cx="4281480" cy="439272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1335240" y="49320"/>
            <a:ext cx="69818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e de Acesso: Metodologia – Limiar de Decisã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95280" y="4005360"/>
            <a:ext cx="84978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4360" y="1484280"/>
            <a:ext cx="77724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68360" y="1557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901800" y="1916280"/>
            <a:ext cx="7772400" cy="43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4360" y="1916280"/>
            <a:ext cx="8424720" cy="49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68360" y="1773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68360" y="1268280"/>
            <a:ext cx="8424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Base FERET - Composta de 991 pesso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tilizadas somente imagens frontais coletadas com intervalo máximo de dois meses entre as seções, com variação nas feições óculos, barba, penteado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oram utilizadas duas imagens frontais (poses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f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fb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) de cada pessoa da base, e montados 10 subconjuntos denominados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fold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da folder contém imagens de 100 pesso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title"/>
          </p:nvPr>
        </p:nvSpPr>
        <p:spPr>
          <a:xfrm>
            <a:off x="1335240" y="49320"/>
            <a:ext cx="69818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erimentos e Resultados – Avaliação com 50 Usuári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5280" y="4005360"/>
            <a:ext cx="84978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84360" y="1484280"/>
            <a:ext cx="77724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68360" y="1557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01800" y="1916280"/>
            <a:ext cx="7772400" cy="43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84360" y="1916280"/>
            <a:ext cx="8424720" cy="49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68360" y="1773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1619280" y="1413000"/>
            <a:ext cx="6408720" cy="494820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2"/>
          <p:cNvSpPr>
            <a:spLocks noGrp="1"/>
          </p:cNvSpPr>
          <p:nvPr>
            <p:ph type="title"/>
          </p:nvPr>
        </p:nvSpPr>
        <p:spPr>
          <a:xfrm>
            <a:off x="1335240" y="49320"/>
            <a:ext cx="69818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erimentos e Resultados – Avaliação com 50 Usuári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95280" y="4005360"/>
            <a:ext cx="84978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4360" y="1484280"/>
            <a:ext cx="77724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68360" y="1557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901800" y="1916280"/>
            <a:ext cx="7772400" cy="43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1916280"/>
            <a:ext cx="8424720" cy="49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68360" y="1773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68360" y="1484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primeir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ld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rá usado para montar a tabela com a distribuição de usuários “legítimos” e “impostores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amos uma curv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O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ra ajustar o limiar de decisã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ma vez ajustado, esse limiar se manterá inalterado para todos o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ld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 conjunto de avali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title"/>
          </p:nvPr>
        </p:nvSpPr>
        <p:spPr>
          <a:xfrm>
            <a:off x="1335240" y="49320"/>
            <a:ext cx="69818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erimentos e Resultados – Avaliação com 50 Usuári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95280" y="4005360"/>
            <a:ext cx="84978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4360" y="1484280"/>
            <a:ext cx="77724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68360" y="1557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01800" y="1916280"/>
            <a:ext cx="7772400" cy="43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4360" y="1916280"/>
            <a:ext cx="8424720" cy="49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68360" y="1773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6769080" cy="396108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492360" y="5300640"/>
            <a:ext cx="2270160" cy="143496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1335240" y="49320"/>
            <a:ext cx="69818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erimentos e Resultados – Avaliação com 50 Usuári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685440" y="1700280"/>
            <a:ext cx="783756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95280" y="4005360"/>
            <a:ext cx="856944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84360" y="1484280"/>
            <a:ext cx="78372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68360" y="1557360"/>
            <a:ext cx="849636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68360" y="1700280"/>
            <a:ext cx="849636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901800" y="1916280"/>
            <a:ext cx="7837560" cy="43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4360" y="1916280"/>
            <a:ext cx="8496000" cy="49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68360" y="1773360"/>
            <a:ext cx="849636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68360" y="1700280"/>
            <a:ext cx="849636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6972480" cy="48974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1391040" y="1197000"/>
            <a:ext cx="68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 Usuários (Limiar de decisão de 5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title"/>
          </p:nvPr>
        </p:nvSpPr>
        <p:spPr>
          <a:xfrm>
            <a:off x="1335240" y="49320"/>
            <a:ext cx="69818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erimentos e Resultados – Avaliação com 50 Usuári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95280" y="4005360"/>
            <a:ext cx="84978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84360" y="1484280"/>
            <a:ext cx="77724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68360" y="1557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901800" y="1916280"/>
            <a:ext cx="7772400" cy="43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4360" y="1916280"/>
            <a:ext cx="8424720" cy="49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8360" y="1341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484360" y="2133720"/>
            <a:ext cx="4032360" cy="29271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1238400" y="1557360"/>
            <a:ext cx="68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 Usuários (Limiar de decisão de 5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title"/>
          </p:nvPr>
        </p:nvSpPr>
        <p:spPr>
          <a:xfrm>
            <a:off x="1335240" y="49320"/>
            <a:ext cx="69818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erimentos e Resultados – Avaliação com 50 Usuári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95280" y="4005360"/>
            <a:ext cx="84978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84360" y="1484280"/>
            <a:ext cx="77724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68360" y="1557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01800" y="1916280"/>
            <a:ext cx="7772400" cy="43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4360" y="1916280"/>
            <a:ext cx="8424720" cy="49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68360" y="1773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4360" y="1916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1335240" y="49320"/>
            <a:ext cx="69818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erimentos e Resultados – Avaliação com 100 Usuári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1619280" y="1125360"/>
            <a:ext cx="6145200" cy="485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424720" cy="31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vestigar a viabilidade do uso de sistemas de controle de acesso baseados unicamente em biometria faci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iar um protótipo funcional de um sistema de controle de acesso para a pesquisa na áre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328400" y="260280"/>
            <a:ext cx="69087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rodução:Objetiv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95280" y="4005360"/>
            <a:ext cx="84978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4360" y="1484280"/>
            <a:ext cx="77724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68360" y="1557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901800" y="1916280"/>
            <a:ext cx="7772400" cy="43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4360" y="1916280"/>
            <a:ext cx="8424720" cy="49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68360" y="1773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84360" y="1916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1474920" y="1197000"/>
            <a:ext cx="5976720" cy="39006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3276720" y="5229360"/>
            <a:ext cx="2411280" cy="152388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2"/>
          <p:cNvSpPr>
            <a:spLocks noGrp="1"/>
          </p:cNvSpPr>
          <p:nvPr>
            <p:ph type="title"/>
          </p:nvPr>
        </p:nvSpPr>
        <p:spPr>
          <a:xfrm>
            <a:off x="1335240" y="49320"/>
            <a:ext cx="69818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erimentos e Resultados – Avaliação com 100 Usuári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95280" y="4005360"/>
            <a:ext cx="84978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84360" y="1484280"/>
            <a:ext cx="77724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68360" y="1557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901800" y="1916280"/>
            <a:ext cx="7772400" cy="43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84360" y="1916280"/>
            <a:ext cx="8424720" cy="49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68360" y="1773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84360" y="1916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2987640" y="1844640"/>
            <a:ext cx="3168720" cy="230184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1140480" y="1268280"/>
            <a:ext cx="705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0 Usuários (Limiar de decisão de 25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title"/>
          </p:nvPr>
        </p:nvSpPr>
        <p:spPr>
          <a:xfrm>
            <a:off x="1335240" y="49320"/>
            <a:ext cx="69818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erimentos e Resultados – Avaliação com 100 Usuári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95280" y="4005360"/>
            <a:ext cx="84978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4360" y="1484280"/>
            <a:ext cx="77724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68360" y="1557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901800" y="1916280"/>
            <a:ext cx="7772400" cy="43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84360" y="1916280"/>
            <a:ext cx="8424720" cy="49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68360" y="1773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4360" y="1916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403280" y="1197000"/>
            <a:ext cx="6583320" cy="436572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2"/>
          <p:cNvSpPr>
            <a:spLocks noGrp="1"/>
          </p:cNvSpPr>
          <p:nvPr>
            <p:ph type="title"/>
          </p:nvPr>
        </p:nvSpPr>
        <p:spPr>
          <a:xfrm>
            <a:off x="1335240" y="49320"/>
            <a:ext cx="69818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erimentos e Resultados – Avaliação com 200 Usuári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95280" y="4005360"/>
            <a:ext cx="84978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84360" y="1484280"/>
            <a:ext cx="77724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68360" y="1557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01800" y="1916280"/>
            <a:ext cx="7772400" cy="43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4360" y="1916280"/>
            <a:ext cx="8424720" cy="49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68360" y="1773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84360" y="1916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403280" y="1197000"/>
            <a:ext cx="6121440" cy="393048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3419640" y="5157720"/>
            <a:ext cx="2376360" cy="150192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1335240" y="49320"/>
            <a:ext cx="69818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erimentos e Resultados – Avaliação com 200 Usuári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95280" y="4005360"/>
            <a:ext cx="84978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84360" y="1484280"/>
            <a:ext cx="77724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68360" y="1557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901800" y="1916280"/>
            <a:ext cx="7772400" cy="43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84360" y="1916280"/>
            <a:ext cx="8424720" cy="49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68360" y="1773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84360" y="1916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3132000" y="1989000"/>
            <a:ext cx="3168720" cy="230040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1213560" y="1413000"/>
            <a:ext cx="705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 Usuários (Limiar de decisão de 33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1335240" y="49320"/>
            <a:ext cx="69818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erimentos e Resultados – Avaliação com 200 Usuári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95280" y="4005360"/>
            <a:ext cx="84978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84360" y="1484280"/>
            <a:ext cx="77724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68360" y="1557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901800" y="1916280"/>
            <a:ext cx="7772400" cy="43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84360" y="1916280"/>
            <a:ext cx="8424720" cy="49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68360" y="1773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84360" y="1916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50920" y="1268280"/>
            <a:ext cx="8424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29 usuário “legítimos”, previamente cadastrados formam o conjunto de Tre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46 acessos, formam o conjunto de T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36 Legíti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0 impos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usuário pode ter mais de um aces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Baixa resolução WebCam (300 pixel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ouve necessidade de descartar imag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sultado será mostrado para todos os Limiares de Decis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title"/>
          </p:nvPr>
        </p:nvSpPr>
        <p:spPr>
          <a:xfrm>
            <a:off x="1335240" y="49320"/>
            <a:ext cx="69818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erimentos e Resultados – Avaliação com Imagens de Víde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95280" y="4005360"/>
            <a:ext cx="84978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4360" y="1484280"/>
            <a:ext cx="77724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68360" y="1557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901800" y="1916280"/>
            <a:ext cx="7772400" cy="43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4360" y="1916280"/>
            <a:ext cx="8424720" cy="49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68360" y="1773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4360" y="1916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9280" y="1268280"/>
            <a:ext cx="8425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ado para todos os limiares de decis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8000" y="2060640"/>
            <a:ext cx="6265800" cy="458136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6469200" y="4543560"/>
            <a:ext cx="2627280" cy="166032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2"/>
          <p:cNvSpPr>
            <a:spLocks noGrp="1"/>
          </p:cNvSpPr>
          <p:nvPr>
            <p:ph type="title"/>
          </p:nvPr>
        </p:nvSpPr>
        <p:spPr>
          <a:xfrm>
            <a:off x="1335240" y="49320"/>
            <a:ext cx="69818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erimentos e Resultados – Avaliação com Imagens de Víde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95280" y="4005360"/>
            <a:ext cx="84978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84360" y="1484280"/>
            <a:ext cx="77724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68360" y="1557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901800" y="1916280"/>
            <a:ext cx="7772400" cy="43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84360" y="1916280"/>
            <a:ext cx="8424720" cy="49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68360" y="1773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84360" y="1916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79280" y="1413000"/>
            <a:ext cx="8425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lvl="1" marL="584280" indent="-314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9 Usuários on-line; 46 aces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4280" indent="-314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Resultado para um limiar de decisão de 5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2843280" y="2637000"/>
            <a:ext cx="3095640" cy="23968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1335240" y="49320"/>
            <a:ext cx="69818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erimentos e Resultados – Avaliação com Imagens de Víde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95280" y="4005360"/>
            <a:ext cx="84978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4360" y="1484280"/>
            <a:ext cx="77724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68360" y="1557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901800" y="1916280"/>
            <a:ext cx="7772400" cy="43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4360" y="1916280"/>
            <a:ext cx="8424720" cy="49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68360" y="1773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4360" y="1916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79280" y="1197000"/>
            <a:ext cx="8425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499680" indent="-4996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ação entre webcam usada no experimento e uma webcam de 1.2 megapix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2160" indent="-437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2700360" y="2205000"/>
            <a:ext cx="3806640" cy="443700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2"/>
          <p:cNvSpPr>
            <a:spLocks noGrp="1"/>
          </p:cNvSpPr>
          <p:nvPr>
            <p:ph type="title"/>
          </p:nvPr>
        </p:nvSpPr>
        <p:spPr>
          <a:xfrm>
            <a:off x="1335240" y="49320"/>
            <a:ext cx="69818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erimentos e Resultados – Avaliação com Imagens de Víde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95280" y="4005360"/>
            <a:ext cx="84978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84360" y="1484280"/>
            <a:ext cx="77724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68360" y="1557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901800" y="1916280"/>
            <a:ext cx="7772400" cy="43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84360" y="1916280"/>
            <a:ext cx="8424720" cy="49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68360" y="1773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84360" y="1916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24000" y="1197000"/>
            <a:ext cx="84960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554400" indent="-5544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FERET (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The Face Recognition Technology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) é financiada pela 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DARPA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Defense Advanced Research Projets Agency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), US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Tem como principais objetivos  [Phillips00]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440" indent="-4852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uscar o estado da arte em sistemas de reconhecimento de f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440" indent="-4852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dentificar novas abordagens do problema e testar o desempenho de algoritmos para o problem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440" indent="-4852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D 97 (University Marylan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440" indent="-48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D 96 (University Marylan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440" indent="-48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USC (University of South California (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automático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440" indent="-48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aseLine E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440" indent="-48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aseLine C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title"/>
          </p:nvPr>
        </p:nvSpPr>
        <p:spPr>
          <a:xfrm>
            <a:off x="1334880" y="95400"/>
            <a:ext cx="7197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cussões:Trabalhos Correlat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34880" y="106200"/>
            <a:ext cx="7197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rodução:Motivaçõ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42472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A pequena quantidade de trabalhos científicos que tratam do problema de controle de acesso utilizando unicamente biometria faci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A maioria dos trabalhos tratam do problema de verificação face (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</a:rPr>
              <a:t>face verification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) e/ou do problema de identificação de face (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</a:rPr>
              <a:t>face identification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95280" y="4005360"/>
            <a:ext cx="84978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4360" y="1484280"/>
            <a:ext cx="77724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68360" y="1557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901800" y="1916280"/>
            <a:ext cx="7772400" cy="43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84360" y="1916280"/>
            <a:ext cx="8424720" cy="49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68360" y="1773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84360" y="1916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79280" y="1484280"/>
            <a:ext cx="84250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24000" y="1268280"/>
            <a:ext cx="8424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560520" indent="-5605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 fase de trein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1160" indent="-490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 sistema “aprende” todas as imagens constantes no subconjunto de treino, onde cada imagem é relacionada com um ID único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 fase de tes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1160" indent="-490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É apresentada a imagem de uma pessoa anteriormente “aprendida” com o seu respectivo ID, e o sistema deve retornar uma lista com as imagens e respectivos ID’s que possuem maior similaridade com a pessoa apresentad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 algoritmo perfeito retornaria a pessoa correta (que possui o mesmo ID da imagem de entrada) sempre na primeira posição da lista, para todas as imagens apresentada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title"/>
          </p:nvPr>
        </p:nvSpPr>
        <p:spPr>
          <a:xfrm>
            <a:off x="1334880" y="95400"/>
            <a:ext cx="7197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cussões:Trabalhos Correlat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456840" y="1604880"/>
            <a:ext cx="4033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95280" y="4005360"/>
            <a:ext cx="84978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84360" y="1484280"/>
            <a:ext cx="77724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68360" y="1557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01800" y="1916280"/>
            <a:ext cx="7772400" cy="43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84360" y="1916280"/>
            <a:ext cx="8424720" cy="49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68360" y="1773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84360" y="1916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79280" y="1484280"/>
            <a:ext cx="84250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24000" y="1628640"/>
            <a:ext cx="8424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0" name=""/>
          <p:cNvGraphicFramePr/>
          <p:nvPr/>
        </p:nvGraphicFramePr>
        <p:xfrm>
          <a:off x="755640" y="1125360"/>
          <a:ext cx="6985080" cy="469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125360"/>
                    <a:ext cx="6985080" cy="46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2" name="" descr=""/>
          <p:cNvPicPr/>
          <p:nvPr/>
        </p:nvPicPr>
        <p:blipFill>
          <a:blip r:embed="rId3"/>
          <a:stretch/>
        </p:blipFill>
        <p:spPr>
          <a:xfrm>
            <a:off x="2293920" y="5810400"/>
            <a:ext cx="4038480" cy="933480"/>
          </a:xfrm>
          <a:prstGeom prst="rect">
            <a:avLst/>
          </a:prstGeom>
          <a:ln w="0">
            <a:noFill/>
          </a:ln>
        </p:spPr>
      </p:pic>
      <p:sp>
        <p:nvSpPr>
          <p:cNvPr id="483" name="PlaceHolder 2"/>
          <p:cNvSpPr>
            <a:spLocks noGrp="1"/>
          </p:cNvSpPr>
          <p:nvPr>
            <p:ph type="title"/>
          </p:nvPr>
        </p:nvSpPr>
        <p:spPr>
          <a:xfrm>
            <a:off x="1334880" y="95400"/>
            <a:ext cx="7197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cussões:Trabalhos Correlat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/>
          </p:nvPr>
        </p:nvSpPr>
        <p:spPr>
          <a:xfrm>
            <a:off x="456840" y="1604880"/>
            <a:ext cx="4033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95280" y="1268280"/>
            <a:ext cx="849780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84360" y="1484280"/>
            <a:ext cx="77724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68360" y="1557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84360" y="1916280"/>
            <a:ext cx="8424720" cy="49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68360" y="1773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79280" y="1268280"/>
            <a:ext cx="842508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abordagem proposta não fez nenhum tipo de teste de detecção de vida. De posse de uma foto de boa qualidade de um legitimo um “impostor” poderia ter o acesso a determinado recurso indevidamente liber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taxa de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FAR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False Acceptance Rat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) em torno de 2% ainda é uma limitação para o uso em aplicações de segurança no mundo re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title"/>
          </p:nvPr>
        </p:nvSpPr>
        <p:spPr>
          <a:xfrm>
            <a:off x="1334880" y="95400"/>
            <a:ext cx="7197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cussões:Análise Crític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6840" y="1604880"/>
            <a:ext cx="4033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95280" y="1557360"/>
            <a:ext cx="84978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84360" y="1484280"/>
            <a:ext cx="77724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68360" y="1557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901800" y="1916280"/>
            <a:ext cx="7772400" cy="43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84360" y="1916280"/>
            <a:ext cx="8424720" cy="49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68360" y="1773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84360" y="1916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24000" y="1268280"/>
            <a:ext cx="842472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s resultados obtidos são animador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junto de 200 usuá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Recall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e 93,00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FA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False Acceptance Rat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 de 0,77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junto de 100 usuá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Recall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e 90,25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FA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False Acceptance Rat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 de 1,7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junto de 50 usuá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Recall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e 93,11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FA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False Acceptance Rat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 de 4,7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title"/>
          </p:nvPr>
        </p:nvSpPr>
        <p:spPr>
          <a:xfrm>
            <a:off x="1334880" y="95400"/>
            <a:ext cx="7197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õ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604880"/>
            <a:ext cx="4033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95280" y="1557360"/>
            <a:ext cx="84978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84360" y="1484280"/>
            <a:ext cx="77724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68360" y="1557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901800" y="1916280"/>
            <a:ext cx="7772400" cy="43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4360" y="1916280"/>
            <a:ext cx="8424720" cy="49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68360" y="1773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84360" y="1916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50920" y="1268280"/>
            <a:ext cx="864216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controle de acesso baseado unicamente em biometria facial se mostrou viável, dentro de alguns limit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u uso ainda não é indicado para aplicações que exijam um forte nível de seguranç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1334880" y="95400"/>
            <a:ext cx="7197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õ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456840" y="1604880"/>
            <a:ext cx="4033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95280" y="1557360"/>
            <a:ext cx="84978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84360" y="1484280"/>
            <a:ext cx="77724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68360" y="1557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901800" y="1916280"/>
            <a:ext cx="7772400" cy="43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4360" y="1916280"/>
            <a:ext cx="8424720" cy="49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68360" y="1773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84360" y="1916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95280" y="1268280"/>
            <a:ext cx="8424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rabalhos Futur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mplementar técnicas de detecção de vida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Liveness Detection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erfeiçoar a técnica de detecção dos olh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umentar a robustez do sistema em relação à pose do usuário; 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vestigar o uso de ensemble no reconhecimento de faces, combinando, por exemplo, Redes Neurais Sem Peso com Modelos Escondidos de Markov (HMM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2400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4" marL="2209680" indent="-380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title"/>
          </p:nvPr>
        </p:nvSpPr>
        <p:spPr>
          <a:xfrm>
            <a:off x="1335240" y="49320"/>
            <a:ext cx="69818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ões - Sugestões de Trabalhos Futur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456840" y="1604880"/>
            <a:ext cx="4033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95280" y="1557360"/>
            <a:ext cx="84978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68360" y="1557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901800" y="1916280"/>
            <a:ext cx="7772400" cy="43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24000" y="1341360"/>
            <a:ext cx="8424720" cy="49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Trabalho na integra e a bibliografia podem ser consultados e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http://www.lcad.inf.ufes.br/wiki/index.php/Imagem:Controle_de_acesso_baseado_em_biometria_facial.pd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1334880" y="95400"/>
            <a:ext cx="7197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bliografi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6840" y="1604880"/>
            <a:ext cx="4033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95280" y="1557360"/>
            <a:ext cx="84978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68360" y="1557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901800" y="1916280"/>
            <a:ext cx="7772400" cy="43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771640" y="2997360"/>
            <a:ext cx="40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brigado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1341360"/>
            <a:ext cx="842472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quer característica física ou comportamental pode ser usada em um sistema biométrico, desde que a mesma tenh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alidade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odas as pessoas devem possui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cidade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Deve ser única em cada pessoa, ou seja, possuir padrões diferentes em pessoas diferent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etabilida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Deve ser passível de ser coletada e med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anência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Deve permanecer invariável durante certo período de temp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 considerar també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empenh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empo e precisão necessários para a aplicaçã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eitabilidad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Grau com que as pessoas aceitam fornecer as características ao sistem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stu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Grau com que determinadas características podem ser imita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1334880" y="106200"/>
            <a:ext cx="7197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ometri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6084720" y="3429000"/>
            <a:ext cx="2880000" cy="283212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2"/>
          <a:stretch/>
        </p:blipFill>
        <p:spPr>
          <a:xfrm>
            <a:off x="395280" y="3284640"/>
            <a:ext cx="5257800" cy="307656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3"/>
          <a:stretch/>
        </p:blipFill>
        <p:spPr>
          <a:xfrm>
            <a:off x="1692360" y="1484280"/>
            <a:ext cx="2520720" cy="1593720"/>
          </a:xfrm>
          <a:prstGeom prst="rect">
            <a:avLst/>
          </a:prstGeom>
          <a:ln w="0">
            <a:noFill/>
          </a:ln>
        </p:spPr>
      </p:pic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334880" y="106200"/>
            <a:ext cx="7197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ometria: Medidas de Desempenho em Sistemas Biométric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34880" y="106200"/>
            <a:ext cx="7197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rodução:Motivaçõ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42472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800000"/>
                </a:solidFill>
                <a:latin typeface="Arial"/>
              </a:rPr>
              <a:t>Verificação de Face (</a:t>
            </a:r>
            <a:r>
              <a:rPr b="1" i="1" lang="pt-BR" sz="2400" spc="-1" strike="noStrike">
                <a:solidFill>
                  <a:srgbClr val="800000"/>
                </a:solidFill>
                <a:latin typeface="Arial"/>
              </a:rPr>
              <a:t>Face Verification</a:t>
            </a:r>
            <a:r>
              <a:rPr b="1" lang="pt-BR" sz="2400" spc="-1" strike="noStrike">
                <a:solidFill>
                  <a:srgbClr val="8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Indivíduo fornece seus dados biométricos e um código de identificação e o sistema examina se os dados biométricos de entrada são aqueles pertencentes ao indivíduo cuja identidade é reivindic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sistema deve retornar uma resposta BINÁRIA à pergunta “Sou quem reivindico ser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800000"/>
                </a:solidFill>
                <a:latin typeface="Arial"/>
              </a:rPr>
              <a:t>Identificação de Face (</a:t>
            </a:r>
            <a:r>
              <a:rPr b="1" i="1" lang="pt-BR" sz="2400" spc="-1" strike="noStrike">
                <a:solidFill>
                  <a:srgbClr val="800000"/>
                </a:solidFill>
                <a:latin typeface="Arial"/>
              </a:rPr>
              <a:t>Face Identification</a:t>
            </a:r>
            <a:r>
              <a:rPr b="1" lang="pt-BR" sz="2400" spc="-1" strike="noStrike">
                <a:solidFill>
                  <a:srgbClr val="8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Indivíduo fornece seus dados biométricos ao sistema, que deve examinar sua base de conhecimento a fim de encontrar um individuo com características equivalent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sistema deve responder à pergunta “Quem sou eu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800000"/>
                </a:solidFill>
                <a:latin typeface="Arial"/>
              </a:rPr>
              <a:t>Controle de Acesso (Access Contr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Indivíduo fornece seus dados biométricos ao sistema, que deve examinar a base de conhecimento de pessoas com acesso a um determinado recur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sistema deve retornar uma resposta BINÁRIA à pergunta “Possuo acesso a este recurso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684360" y="126828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écnicas proposta por Viola e Jones [Viola01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magem integ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racterísticas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Haa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featur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de  um, dois, três e quatro retângu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binação de categorizadores baseados no AdaBo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 área ou “característica” B = dada por P2 – P1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aracterística” C é dada por P3 – P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aracterística  D é dada por (P4 + P1) – ( P2 + P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3132000" y="2997360"/>
            <a:ext cx="2376720" cy="2217600"/>
          </a:xfrm>
          <a:prstGeom prst="rect">
            <a:avLst/>
          </a:prstGeom>
          <a:ln w="0">
            <a:noFill/>
          </a:ln>
        </p:spPr>
      </p:pic>
      <p:sp>
        <p:nvSpPr>
          <p:cNvPr id="551" name="PlaceHolder 2"/>
          <p:cNvSpPr>
            <a:spLocks noGrp="1"/>
          </p:cNvSpPr>
          <p:nvPr>
            <p:ph type="title"/>
          </p:nvPr>
        </p:nvSpPr>
        <p:spPr>
          <a:xfrm>
            <a:off x="1335240" y="77760"/>
            <a:ext cx="69818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ecção Objetos: Detecção de Face, olhos e mão em Tempo Re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95280" y="4005360"/>
            <a:ext cx="84978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84360" y="1484280"/>
            <a:ext cx="77724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68360" y="1557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901800" y="1916280"/>
            <a:ext cx="7772400" cy="43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84360" y="1916280"/>
            <a:ext cx="8424720" cy="49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68360" y="1773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84360" y="1916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1908000" y="1916280"/>
            <a:ext cx="5445360" cy="416556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/>
          <p:nvPr/>
        </p:nvSpPr>
        <p:spPr>
          <a:xfrm>
            <a:off x="2414880" y="1268280"/>
            <a:ext cx="450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miar de decisão de 2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1335240" y="49320"/>
            <a:ext cx="69818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erimentos e Resultados – Avaliação com 100 Usuári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posição de metodologia, baseada na regra de Bayes, para implementar sistemas de controle de acesso a partir de mecanismo genérico de identific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valiação de Redes Neurais Sem Peso VG-RAM como mecanismo fundamental de sistemas de controle de aces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senvolvimento de um protótipo de um sistema de controle de acesso que consegue autenticar corretamente até 93,00% dos usuários com um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FAR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False Acceptance Rat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) de 0,77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1334880" y="106200"/>
            <a:ext cx="7197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rodução:Contribuiçõ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68360" y="1414080"/>
            <a:ext cx="842472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biometria explora o fato de que certas características físicas ou comportamentais dos seres vivos poderem ser usadas para diferenciar um ente de seus pare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de ser definida como o reconhecimento pessoal baseado em características comportamentais ou fisiológicas de um indivídu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334880" y="106200"/>
            <a:ext cx="7197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ometri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8424720" cy="53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7680" indent="-3376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umas característica biométric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6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6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6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6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6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6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6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6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ão existe a “melhor” característica biométr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187280" y="1700280"/>
            <a:ext cx="6985080" cy="44863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334880" y="106200"/>
            <a:ext cx="7197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ometri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9T10:31:50Z</dcterms:created>
  <dc:creator>SEAMED</dc:creator>
  <dc:description/>
  <dc:language>en-US</dc:language>
  <cp:lastModifiedBy>Jairo</cp:lastModifiedBy>
  <dcterms:modified xsi:type="dcterms:W3CDTF">2010-08-31T14:19:13Z</dcterms:modified>
  <cp:revision>80</cp:revision>
  <dc:subject/>
  <dc:title>Slide sem título </dc:title>
</cp:coreProperties>
</file>